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C21-5D64-4D40-B418-DAE56AAB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9A0-E286-4BF5-AF6B-33C00B7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756-F799-4D91-869E-6886B631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A00-73C2-4604-8B21-3442B443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2BE-C393-4341-8CC8-FD98D5F3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C55-56DB-4E30-92E0-EB21710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0C2-BE22-44D3-AED3-10C091AE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CB7-2A59-4788-8436-BC246E8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3BE-718E-43FA-9C5C-268F6AC7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B4D-A44B-4E24-AC0E-2D4AFD1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F33-6BFF-44C2-8E28-A74B697B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E92-8D81-4B38-9139-597512A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154-F38D-4751-96A9-0A5D05606BE2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609480"/>
          <a:ext cx="6629400" cy="8321760"/>
        </p:xfrm>
        <a:graphic>
          <a:graphicData uri="http://schemas.openxmlformats.org/drawingml/2006/table">
            <a:tbl>
              <a:tblPr/>
              <a:tblGrid>
                <a:gridCol w="5029200"/>
                <a:gridCol w="160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ue statement that is backed b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in the form of facts or statistics used for reference or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which follows a regular , organized 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to or measured by quality, it involves descriptiv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atement that expresses one’s view and which cannot be proved  right or w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to do with moral princ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ystematic process of collecting and analyzing information that aims at creating new knowl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to or measured by quantity, it involves numerical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questionable and open to arg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ivity or profession of writing in newspapers and magaz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304920" y="16344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ck off the terms used for the 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4572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" y="21636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57200" y="391644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" y="5715000"/>
          <a:ext cx="5867280" cy="111276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57200" y="7421400"/>
          <a:ext cx="5867280" cy="111312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p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Straight Connector 7"/>
          <p:cNvSpPr/>
          <p:nvPr/>
        </p:nvSpPr>
        <p:spPr>
          <a:xfrm>
            <a:off x="0" y="1905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8"/>
          <p:cNvSpPr/>
          <p:nvPr/>
        </p:nvSpPr>
        <p:spPr>
          <a:xfrm>
            <a:off x="0" y="35798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9"/>
          <p:cNvSpPr/>
          <p:nvPr/>
        </p:nvSpPr>
        <p:spPr>
          <a:xfrm>
            <a:off x="0" y="540864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7161120"/>
            <a:ext cx="6858000" cy="18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>
            <a:off x="2124000" y="814320"/>
            <a:ext cx="29815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llow up work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Picture 5" descr="19832865"/>
          <p:cNvPicPr/>
          <p:nvPr/>
        </p:nvPicPr>
        <p:blipFill>
          <a:blip r:embed="rId1"/>
          <a:stretch/>
        </p:blipFill>
        <p:spPr>
          <a:xfrm>
            <a:off x="228600" y="7632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0880" y="1447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recap the core knowledge from this session, students are asked to read the mentioned research paper then reflect on it critically and answer the given ques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2500200"/>
            <a:ext cx="6324480" cy="1334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earch Paper Suggeste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’s Views on Children’s Right to Work: Reflections from Belfa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nard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ildhood</a:t>
            </a:r>
            <a:r>
              <a:rPr b="0" i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04; 11: 45-6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8600" y="8564400"/>
            <a:ext cx="64008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Activity  Sheet # 6 in student workbook . Reference : SB6- What i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2362320" y="22860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ctivity 7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80880" y="4368960"/>
            <a:ext cx="6172200" cy="311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aim of this activity is make students critically evaluate the research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tudent must be able to find out if the research is Qualitative or quantit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uthor’s idea in carrying out this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ethodological design of th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this research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21:59Z</dcterms:created>
  <dc:creator>Gene</dc:creator>
  <dc:description/>
  <dc:language>en-US</dc:language>
  <cp:lastModifiedBy>Gene</cp:lastModifiedBy>
  <dcterms:modified xsi:type="dcterms:W3CDTF">2008-03-03T17:22:40Z</dcterms:modified>
  <cp:revision>1</cp:revision>
  <dc:subject/>
  <dc:title>Slide 1</dc:title>
</cp:coreProperties>
</file>